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3.jpeg" ContentType="image/jpeg"/>
  <Override PartName="/ppt/media/image1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C614-6BE7-4E89-AF68-5FAC6D587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5CA7-C1D0-42F4-A17D-5297B4CC2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B35C-D12C-40CB-8DBF-BF9FFF60E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7D7F-B429-41C2-B10C-E105FBB29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0F3F-B621-41B9-80CE-1FCE5C2D1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5E56-E49B-4C02-95F6-F31700827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347D-28F3-40D8-AC92-4A8144109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BB0A-7A40-41B8-8C82-CB17A4B19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EDAF-A745-411C-A2D2-7EA81AA2C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B2BD-7594-457F-AADD-429A55C85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630E-A358-4FB1-B4FC-43716BBCC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E405-EAD3-4F05-A6E0-E08BBF910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2DA3-F5C2-4E77-95A2-3024009A2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DBAC-4301-4585-AC14-53437D6D3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7AE1-4203-43FD-8104-08C6A2309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876B-BF39-4B16-8AC6-1EE3C8CF0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4CF5-3605-4575-BC92-FE32FC01E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628B-1D4B-44BC-96BD-886767C0B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2932-EE01-4172-81DF-42C4D462E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2D23-41E2-46D2-A564-7956A4AD2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74C0-B1D3-4969-BF2F-364184FF0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7C93-D0B0-4F3B-9711-0B8F08406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071A-0377-423A-B125-8E76EC0FA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B4EE-9F8A-41D5-88CF-D9EB53DB3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7FC5-CC61-4CF1-A225-00FCF1402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3335-FE09-4F9E-A7BF-75CCA7C10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D39B-97C4-4A4D-A431-379C151C3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A64A-D443-4B93-A680-A37583140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EEF8-57BB-41BC-9808-09280129C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F63B-092C-4F29-B402-5CA56AE9F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CF0D-4383-4FD9-915E-B4C1D1606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83FC-14FE-4FC9-A6BC-A4CA17FD4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0595-0BD9-44A8-B22A-0DF485A8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CBF1-CDD7-4901-B7D9-FF514313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FC52-7CCB-421B-BB94-3D4161222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6C11-1825-4251-84DB-6A7B50617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5A92-E31A-4631-90D2-3A11A56E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0AE1-0372-4F8B-8547-47A27E64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8263-3AD5-4982-BE39-95202F16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0DD2-EBC5-4E26-ADD7-0DBB5EBA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E039-2798-4A57-A013-2BE45004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9260-5DF6-4CE7-A6CC-6432E89F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000B-5155-4009-80FA-CAB4C997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B1AC-E5C5-4A07-8DD1-05502717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2986-EBE5-4034-A692-8C79C88CC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ifeinitaly.com/food/img/Olive-oil-bottle-sm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odeldietplan.com/images/vitamins.gif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modeldietplan.com/images/vitamins.gif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zephyrus.co.uk/potassium.gif&amp;imgrefurl=http://www.zephyrus.co.uk/thereactivityseries.html&amp;h=589&amp;w=617&amp;sz=7&amp;hl=en&amp;start=13&amp;tbnid=Ztlb1fIIXEWQQM:&amp;tbnh=130&amp;tbnw=136&amp;prev=/images%3Fq%3Dpotassium%26gbv%3D2%26svnum%3D10%26hl%3Den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/imgres?imgurl=http://www.chem4kids.com/files/elements/art/012_symbol.gif&amp;imgrefurl=http://www.chem4kids.com/files/elements/012_shells.html&amp;h=225&amp;w=440&amp;sz=15&amp;hl=en&amp;start=4&amp;tbnid=EWST59EJorryMM:&amp;tbnh=65&amp;tbnw=127&amp;prev=/images%3Fq%3Dmagnesium%2Bin%2Bperiodic%2Btable%26gbv%3D2%26svnum%3D10%26hl%3Den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com/imgres?imgurl=http://www.chem4kids.com/files/elements/art/026_symbol.gif&amp;imgrefurl=http://www.chem4kids.com/files/elements/026_shells.html&amp;h=225&amp;w=440&amp;sz=14&amp;hl=en&amp;start=2&amp;tbnid=uf6S2i-6_kr51M:&amp;tbnh=65&amp;tbnw=127&amp;prev=/images%3Fq%3Diron%2Bin%2Bperiodic%2Btable%26gbv%3D2%26ndsp%3D20%26svnum%3D10%26hl%3Den%26sa%3DN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google.com/imgres?imgurl=http://www.lm.liverpool.k12.ny.us/HyperChart/periodicchart/p.c.gifs/sodium.GIF&amp;imgrefurl=http://www.lm.liverpool.k12.ny.us/HyperChart/periodicchart/sodium.html&amp;h=431&amp;w=620&amp;sz=46&amp;hl=en&amp;start=5&amp;tbnid=q3U-m0k25ZM6SM:&amp;tbnh=95&amp;tbnw=136&amp;prev=/images%3Fq%3DSodium%26gbv%3D2%26svnum%3D10%26hl%3Den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Nutrition, Digestion and Excretion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logy 3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3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Kristen ITC"/>
              </a:rPr>
              <a:t>How Much Energy is in the Food We Eat?</a:t>
            </a:r>
            <a:endParaRPr b="0" lang="en-US" sz="40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CALOR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s the amount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erg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is in 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unt of heat energy needed to raise the temp. of 1 mL of water by 1 degree Celsi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our food labels we se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ories (kilocalori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orie = 1000 cal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jelly bean = 3 Calories = 3000 calories!  (That’s a lot of energy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Food Labels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7" descr="label"/>
          <p:cNvPicPr/>
          <p:nvPr/>
        </p:nvPicPr>
        <p:blipFill>
          <a:blip r:embed="rId1"/>
          <a:stretch/>
        </p:blipFill>
        <p:spPr>
          <a:xfrm>
            <a:off x="228600" y="762120"/>
            <a:ext cx="2419200" cy="5715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label-skimmilk"/>
          <p:cNvPicPr/>
          <p:nvPr/>
        </p:nvPicPr>
        <p:blipFill>
          <a:blip r:embed="rId2"/>
          <a:stretch/>
        </p:blipFill>
        <p:spPr>
          <a:xfrm>
            <a:off x="3124080" y="1676520"/>
            <a:ext cx="2911680" cy="4714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racNutLabel"/>
          <p:cNvPicPr/>
          <p:nvPr/>
        </p:nvPicPr>
        <p:blipFill>
          <a:blip r:embed="rId3"/>
          <a:stretch/>
        </p:blipFill>
        <p:spPr>
          <a:xfrm>
            <a:off x="6629400" y="428760"/>
            <a:ext cx="227664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Kristen ITC"/>
              </a:rPr>
              <a:t>Getting the Glucose for Cell Respiration...</a:t>
            </a:r>
            <a:endParaRPr b="0" lang="en-US" sz="40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Kristen ITC"/>
              </a:rPr>
              <a:t>The Huma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Kristen ITC"/>
              </a:rPr>
              <a:t>Digestive System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2819160"/>
            <a:ext cx="83808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Kristen ITC"/>
              </a:rPr>
              <a:t>Anatomy</a:t>
            </a:r>
            <a:endParaRPr b="0" lang="en-US" sz="5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038480" y="4648320"/>
            <a:ext cx="9144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DigestSys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6373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9"/>
          <p:cNvSpPr/>
          <p:nvPr/>
        </p:nvSpPr>
        <p:spPr>
          <a:xfrm>
            <a:off x="6172200" y="2286000"/>
            <a:ext cx="152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5943600" y="5638680"/>
            <a:ext cx="2971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unitedstreaming.com/search/assetDetail.cfm?guidAssetID=261AD126-687E-4F76-A972-A14DD33964E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1.  Mouth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61722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(mechanical)dige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w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 dige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livary glands release saliva which has </a:t>
            </a:r>
            <a:r>
              <a:rPr b="1" i="1" lang="en-US" sz="2400" spc="-1" strike="noStrike" u="sng">
                <a:solidFill>
                  <a:srgbClr val="99cc00"/>
                </a:solidFill>
                <a:uFillTx/>
                <a:latin typeface="Arial"/>
              </a:rPr>
              <a:t>Amyl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rch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mplex smaller sugars (malto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od spends a short time in mouth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ts left undiges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9" descr="mouth"/>
          <p:cNvPicPr/>
          <p:nvPr/>
        </p:nvPicPr>
        <p:blipFill>
          <a:blip r:embed="rId1"/>
          <a:stretch/>
        </p:blipFill>
        <p:spPr>
          <a:xfrm>
            <a:off x="6172200" y="1066680"/>
            <a:ext cx="2743200" cy="206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Amylase Activity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a crack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w for 5 sec and record how it tas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, continue chewing for 5 more min, an record again how it tas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and why did the taste of the cracker change?  Write down the answ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Kristen ITC"/>
              </a:rPr>
              <a:t>Mechanical vs. Chemical Demo</a:t>
            </a:r>
            <a:endParaRPr b="0" lang="en-US" sz="40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k egg into container and scramble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process is th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ur scrambled egg into boiling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process is th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Kristen ITC"/>
              </a:rPr>
              <a:t>2.  Esophagus &amp; Epiglottis</a:t>
            </a:r>
            <a:endParaRPr b="0" lang="en-US" sz="40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ophagus connects mouth to stom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Arial"/>
              </a:rPr>
              <a:t>Peristalsi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wavelike contracts force food d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iglot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p door” prevents food “going down the wrong pip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rtburn”- backflow of stomach acid into the esopha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diac spyncter- ring of muscle that keeps stomach closed when chu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8" descr="ans7_esophagus"/>
          <p:cNvPicPr/>
          <p:nvPr/>
        </p:nvPicPr>
        <p:blipFill>
          <a:blip r:embed="rId1"/>
          <a:stretch/>
        </p:blipFill>
        <p:spPr>
          <a:xfrm>
            <a:off x="5257800" y="1219320"/>
            <a:ext cx="315756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Marble in a Tube Demo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tube is an esophagus, what does the marble repres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is peristalsis model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3.  Stomach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 dige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ce of food trigg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cc00"/>
                </a:solidFill>
                <a:uFillTx/>
                <a:latin typeface="Arial"/>
              </a:rPr>
              <a:t>Gastric ju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Cl + mucu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o</a:t>
            </a:r>
            <a:r>
              <a:rPr b="1" i="1" lang="en-US" sz="2000" spc="-1" strike="noStrike">
                <a:solidFill>
                  <a:srgbClr val="99cc00"/>
                </a:solidFill>
                <a:latin typeface="Arial"/>
              </a:rPr>
              <a:t> peps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Protein digestion beg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rotein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lypepti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dige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urning and mix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Mixture is called Chy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6" descr="stomach2"/>
          <p:cNvPicPr/>
          <p:nvPr/>
        </p:nvPicPr>
        <p:blipFill>
          <a:blip r:embed="rId1"/>
          <a:stretch/>
        </p:blipFill>
        <p:spPr>
          <a:xfrm>
            <a:off x="5105520" y="1523880"/>
            <a:ext cx="3646440" cy="44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Food and Nutrition 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 we need foo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ding new molec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e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ll membra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NA/R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trition is the study of food and its effects on the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Essential Nutr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ter, Vitamins, Minerals, Fats (lipids), Proteins, Carbohydr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4. Small Intestine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digestion is completed by the time food leaves S.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trients absorbed into bloodstr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ing to S.I. from stomach-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yloric sphinc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sections- </a:t>
            </a:r>
            <a:r>
              <a:rPr b="0" lang="en-US" sz="2400" spc="-1" strike="noStrike">
                <a:solidFill>
                  <a:srgbClr val="9999ff"/>
                </a:solidFill>
                <a:latin typeface="Arial"/>
              </a:rPr>
              <a:t>duodenum, jejunum, ile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-7 meters long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6" descr="Illustration of the regions of the small intestine"/>
          <p:cNvPicPr/>
          <p:nvPr/>
        </p:nvPicPr>
        <p:blipFill>
          <a:blip r:embed="rId1"/>
          <a:stretch/>
        </p:blipFill>
        <p:spPr>
          <a:xfrm>
            <a:off x="5105520" y="1905120"/>
            <a:ext cx="403848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Secretions 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help digest food the liver and gall bladder and the pancreas secrete various enzymes and fluids into the small intes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th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Liver and Gall Blad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ile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- breaks fats into smaller droplets (like a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      deterg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iver makes it, gall bladder stores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6" descr="Def-17"/>
          <p:cNvPicPr/>
          <p:nvPr/>
        </p:nvPicPr>
        <p:blipFill>
          <a:blip r:embed="rId1"/>
          <a:stretch/>
        </p:blipFill>
        <p:spPr>
          <a:xfrm>
            <a:off x="5410080" y="4572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Kristen ITC"/>
              </a:rPr>
              <a:t>Secretions from the Pancreas</a:t>
            </a:r>
            <a:endParaRPr b="0" lang="en-US" sz="40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creas adds </a:t>
            </a:r>
            <a:r>
              <a:rPr b="1" i="1" lang="en-US" sz="3200" spc="-1" strike="noStrike">
                <a:solidFill>
                  <a:srgbClr val="99cc00"/>
                </a:solidFill>
                <a:latin typeface="Arial"/>
              </a:rPr>
              <a:t>pancreatic ju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fts pH from acidic to basic – 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Trypsin (breaks down protei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ypeptide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mino ac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Lipases (break down fa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pid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atty acid + glyce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Amylase (breaks down starc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b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lt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6" descr="pancreas"/>
          <p:cNvPicPr/>
          <p:nvPr/>
        </p:nvPicPr>
        <p:blipFill>
          <a:blip r:embed="rId1"/>
          <a:stretch/>
        </p:blipFill>
        <p:spPr>
          <a:xfrm>
            <a:off x="5586480" y="2666880"/>
            <a:ext cx="34592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Kristen ITC"/>
              </a:rPr>
              <a:t>Secretions from th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Kristen ITC"/>
              </a:rPr>
              <a:t> Small Intestine</a:t>
            </a:r>
            <a:endParaRPr b="0" lang="en-US" sz="40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Maltase, sucrase, lact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k down remaining disaccharides into monosacchar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Peptid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 breakdown of any remaining prote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Absorption of nutrients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Intestine has increased surface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rcular fo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l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vil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youtube.com/watch?v=zX4hdOPgn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villi"/>
          <p:cNvPicPr/>
          <p:nvPr/>
        </p:nvPicPr>
        <p:blipFill>
          <a:blip r:embed="rId1"/>
          <a:stretch/>
        </p:blipFill>
        <p:spPr>
          <a:xfrm>
            <a:off x="3657600" y="2286000"/>
            <a:ext cx="4383000" cy="2971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villi"/>
          <p:cNvPicPr/>
          <p:nvPr/>
        </p:nvPicPr>
        <p:blipFill>
          <a:blip r:embed="rId2"/>
          <a:stretch/>
        </p:blipFill>
        <p:spPr>
          <a:xfrm>
            <a:off x="6858000" y="4419720"/>
            <a:ext cx="228600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5.  Large Intestine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Main function- absorption of wa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ial that remains is called Fe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teria in the colon feed on waste and produce vitamin K- symbiotic relation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iarrhe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ue to illness not enough water is removed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nstip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oo much water is remov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large_intestine"/>
          <p:cNvPicPr/>
          <p:nvPr/>
        </p:nvPicPr>
        <p:blipFill>
          <a:blip r:embed="rId1"/>
          <a:stretch/>
        </p:blipFill>
        <p:spPr>
          <a:xfrm>
            <a:off x="4724280" y="1681200"/>
            <a:ext cx="4343400" cy="42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6.  Rectum and Anus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te ex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WordArt 4"/>
          <p:cNvSpPr txBox="1"/>
          <p:nvPr/>
        </p:nvSpPr>
        <p:spPr>
          <a:xfrm rot="21110400">
            <a:off x="2590560" y="3276720"/>
            <a:ext cx="42670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3672000"/>
                </a:gradFill>
                <a:latin typeface="Impact"/>
              </a:rPr>
              <a:t>THE END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3672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38-3 Excretory System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id waste leaves the body through the anus (end of col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bout liquid was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of the liquid absorbed from small and large intestine enters the blood stre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en brought to the kidneys where the liquid is filtered.  This is the excretory system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Excretion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 by which metabolic wastes are elimin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tains homeost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e kidne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 waste products from the b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te blood 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te water content of blood (blood volu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pic>
        <p:nvPicPr>
          <p:cNvPr id="134" name="Picture 4" descr="Kidney: Illustration"/>
          <p:cNvPicPr/>
          <p:nvPr/>
        </p:nvPicPr>
        <p:blipFill>
          <a:blip r:embed="rId1"/>
          <a:stretch/>
        </p:blipFill>
        <p:spPr>
          <a:xfrm>
            <a:off x="914400" y="0"/>
            <a:ext cx="7010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Kristen ITC"/>
              </a:rPr>
              <a:t>Water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cell in the body needs water to complete many of the body’s processes and chemical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loss causes problems in all the bod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water_drop"/>
          <p:cNvPicPr/>
          <p:nvPr/>
        </p:nvPicPr>
        <p:blipFill>
          <a:blip r:embed="rId1"/>
          <a:stretch/>
        </p:blipFill>
        <p:spPr>
          <a:xfrm>
            <a:off x="5029200" y="4373640"/>
            <a:ext cx="373392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The Nephron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ctional units of the kid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than 1 million nephrons in each kidne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of nephron is in the renal cort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p of Henle is in medu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5" descr="kidney_function1"/>
          <p:cNvPicPr/>
          <p:nvPr/>
        </p:nvPicPr>
        <p:blipFill>
          <a:blip r:embed="rId1"/>
          <a:stretch/>
        </p:blipFill>
        <p:spPr>
          <a:xfrm>
            <a:off x="4915080" y="2133720"/>
            <a:ext cx="4228920" cy="42289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8"/>
          <p:cNvSpPr/>
          <p:nvPr/>
        </p:nvSpPr>
        <p:spPr>
          <a:xfrm>
            <a:off x="5257800" y="56386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Loop of Hen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6477120" y="57150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Filtration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1920" y="12193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, urea, glucose,salts, amino acids and some vitamins are filtered out of the bloo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alled the filtra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sma protein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s and platelets remain in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352320" y="2865600"/>
            <a:ext cx="5791320" cy="39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5" descr="glomerulus_illustration"/>
          <p:cNvPicPr/>
          <p:nvPr/>
        </p:nvPicPr>
        <p:blipFill>
          <a:blip r:embed="rId1"/>
          <a:stretch/>
        </p:blipFill>
        <p:spPr>
          <a:xfrm>
            <a:off x="3429000" y="3038400"/>
            <a:ext cx="57150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Reabsorption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315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ood amount of the filtrate is reabsorbed back into the capillaries surrounding the Loop of Hen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ever is left in loop is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Urine goe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collecting duct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ureter to blad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7" descr="http://www.custodiol.com/images/pageimages/3_kidney.jpg"/>
          <p:cNvPicPr/>
          <p:nvPr/>
        </p:nvPicPr>
        <p:blipFill>
          <a:blip r:embed="rId1"/>
          <a:stretch/>
        </p:blipFill>
        <p:spPr>
          <a:xfrm>
            <a:off x="5029200" y="3809880"/>
            <a:ext cx="39434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Problems with the kidneys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Kidney ston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deposits of calcium, salts, or magnesium crystallize and form stones, block the ur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be removed, very pain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ken down until they are small enough to pa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wo kidneys but we can survive with just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Dialy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vailable when both kidneys f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Video of Nephron Function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youtube.com/watch?v=glu0dzK4dbU&amp;feature=rel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Kristen ITC"/>
              </a:rPr>
              <a:t>Fats (Lipids)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ufacture cell membranes, produce hormones and stor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cc00"/>
                </a:solidFill>
                <a:latin typeface="Arial"/>
              </a:rPr>
              <a:t>Saturat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ontains only single bonds (all possible hydrogens)  eg. bu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cc00"/>
                </a:solidFill>
                <a:latin typeface="Arial"/>
              </a:rPr>
              <a:t>Unsaturat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ontains one or more double or triple bonds eg. olive 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5" descr="small_stick"/>
          <p:cNvPicPr/>
          <p:nvPr/>
        </p:nvPicPr>
        <p:blipFill>
          <a:blip r:embed="rId1"/>
          <a:stretch/>
        </p:blipFill>
        <p:spPr>
          <a:xfrm>
            <a:off x="533520" y="228600"/>
            <a:ext cx="1876320" cy="942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Olive-oil-bottle-s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53080" y="4572000"/>
            <a:ext cx="1581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Kristen ITC"/>
              </a:rPr>
              <a:t>Protein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body with material for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up parts of muscles, skin and internal org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dy can naturally produce 12 of 20 amino ac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other 8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us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 obtained from fo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ed essential amino ac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7" descr="19738"/>
          <p:cNvPicPr/>
          <p:nvPr/>
        </p:nvPicPr>
        <p:blipFill>
          <a:blip r:embed="rId1"/>
          <a:stretch/>
        </p:blipFill>
        <p:spPr>
          <a:xfrm>
            <a:off x="5715000" y="2895480"/>
            <a:ext cx="3200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Kristen ITC"/>
              </a:rPr>
              <a:t>Vitamins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c molecules that are needed by the body to help perform important chemical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 essential vitam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typ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fat-solu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A,D,E,K)- stored in fatty tissues of the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water-solu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C,B)- cannot be sto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5" descr="vitami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228600"/>
            <a:ext cx="1981080" cy="1332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vitamin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90720" y="228600"/>
            <a:ext cx="198108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Kristen ITC"/>
              </a:rPr>
              <a:t>Minerals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organic nutrients that the body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 in periodic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 Ca (bones), Fe (needed for hemoglobin), Mg (normal function of nerves and musc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t in sweat, urine and other waste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7" descr="potassiu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5029200"/>
            <a:ext cx="1295280" cy="1238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012_symbo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95680" y="5486400"/>
            <a:ext cx="2133720" cy="1092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026_symbo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304920"/>
            <a:ext cx="2209680" cy="1130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sodium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81680" y="228600"/>
            <a:ext cx="1905120" cy="13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Kristen ITC"/>
              </a:rPr>
              <a:t>Carbohydrates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 source of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form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sug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 star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oken down into simple sugar in digestiv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ulose=</a:t>
            </a:r>
            <a:r>
              <a:rPr b="0" i="1" lang="en-US" sz="2400" spc="-1" strike="noStrike">
                <a:solidFill>
                  <a:srgbClr val="00ffff"/>
                </a:solidFill>
                <a:latin typeface="Arial"/>
              </a:rPr>
              <a:t> fib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annot be broken down, helps process food more efficientl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5" descr="carbohydrates2"/>
          <p:cNvPicPr/>
          <p:nvPr/>
        </p:nvPicPr>
        <p:blipFill>
          <a:blip r:embed="rId1"/>
          <a:stretch/>
        </p:blipFill>
        <p:spPr>
          <a:xfrm>
            <a:off x="6762600" y="380880"/>
            <a:ext cx="2076480" cy="306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Christmas%2520Beaded%2520fruit%2520new%25208-05"/>
          <p:cNvPicPr/>
          <p:nvPr/>
        </p:nvPicPr>
        <p:blipFill>
          <a:blip r:embed="rId2"/>
          <a:stretch/>
        </p:blipFill>
        <p:spPr>
          <a:xfrm>
            <a:off x="914400" y="4952880"/>
            <a:ext cx="2895480" cy="1609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2003-10-31--Halloween_Candy"/>
          <p:cNvPicPr/>
          <p:nvPr/>
        </p:nvPicPr>
        <p:blipFill>
          <a:blip r:embed="rId3"/>
          <a:stretch/>
        </p:blipFill>
        <p:spPr>
          <a:xfrm>
            <a:off x="5943600" y="4572000"/>
            <a:ext cx="28288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Kristen ITC"/>
              </a:rPr>
              <a:t>Food and Energy</a:t>
            </a:r>
            <a:endParaRPr b="0" lang="en-US" sz="4400" spc="-1" strike="noStrike">
              <a:solidFill>
                <a:srgbClr val="ffffff"/>
              </a:solidFill>
              <a:latin typeface="Kristen IT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 contains- Carbs, Fat, Protein and Nulceic Acids   Which is our main source for energy?  Back up sour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s are broken down by the digestive system to the simple sugar,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GLUC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cells like to use glucose for cell respiration.  As a back up fatty acids and even amino acids can be used if necess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0:19:57Z</dcterms:created>
  <dc:creator>Brian and Megan Gallagher</dc:creator>
  <dc:description/>
  <dc:language>en-US</dc:language>
  <cp:lastModifiedBy>Preferred Customer</cp:lastModifiedBy>
  <dcterms:modified xsi:type="dcterms:W3CDTF">2009-10-26T04:37:20Z</dcterms:modified>
  <cp:revision>25</cp:revision>
  <dc:subject/>
  <dc:title>Cell resp</dc:title>
</cp:coreProperties>
</file>